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D967439-3689-497B-8421-1AFBA8A713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F02AC9-B61C-4CDE-A0C2-3FF2296D906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F8FB06D-6447-46E0-8B82-8E280ED6AB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B409519-53D6-4E62-99A0-739074CF70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75FDA92-4FA7-4EFC-AB13-06C714479B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E9F203F-2FBC-4467-AB6F-D0B7C14E68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October, 24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C89EEBE-43FC-4B58-82E9-7A7B28BA2D9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4.10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.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35080" y="1317600"/>
            <a:ext cx="71946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Continue with Neo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Not delayed within the mechanical process due to software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Release budget for tooling when necessary (before M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Stop of the project 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33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ision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08960" y="462276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4076640"/>
            <a:ext cx="467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We take the following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4600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576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13680" y="461808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102200" y="4583160"/>
            <a:ext cx="380880" cy="2919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25920" y="4630680"/>
            <a:ext cx="2436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Present agai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49400" y="390672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chedule N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680" y="106632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SX1 2 Month delay for N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SW unclear (target until End Sep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core team not fully staff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companies (e.g Atelier) aren’t able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o due to SX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 negotiations with Nokia are focusing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X1 not on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ies 60 contract available for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HW on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 for HW on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Jul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1.9“ on critical pa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Only 30k are available end of Ju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193K are available end of Aug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20600" y="1152360"/>
            <a:ext cx="86425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  <a:ea typeface="Times New Roman"/>
              </a:rPr>
              <a:t>BOM develop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Start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Kempinski-WS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45 EUR (Basis Yazo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sult of Landshut-WS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1.07-01.08.03)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eo design V3 is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2,0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V3 includes: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amber keypad LED's (12er b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simple QWETRTY keypad (Foil Keypad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no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Current position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5.08.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o stacked EGOLD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 1,3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QWERTY-keypad SL55 like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5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d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1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white keypad LED's (12er block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3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&gt;Neo BOM today: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9,7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o-BOM: History and st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2200" y="2300400"/>
            <a:ext cx="770040" cy="2752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171880" y="2340000"/>
            <a:ext cx="769680" cy="27129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51200" y="1987560"/>
            <a:ext cx="770040" cy="306540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11920" y="1814400"/>
            <a:ext cx="770040" cy="3238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962440" y="1987560"/>
            <a:ext cx="769680" cy="35244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41760" y="1886040"/>
            <a:ext cx="770040" cy="10152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30880" y="1835280"/>
            <a:ext cx="770040" cy="5076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21440" y="1814400"/>
            <a:ext cx="770040" cy="2088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382760" y="2300400"/>
            <a:ext cx="770040" cy="3960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23160" y="1795320"/>
            <a:ext cx="770040" cy="19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622440" y="5459400"/>
          <a:ext cx="7800840" cy="44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5459400"/>
                    <a:ext cx="7800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551400" y="5883120"/>
            <a:ext cx="119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800" y="587520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Kem-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38960" y="5877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43280" y="587232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66760" y="116352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arge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98640" y="1220760"/>
            <a:ext cx="1166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pt #3 cost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5456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gu Qw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1028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ite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42160" y="1095840"/>
            <a:ext cx="1011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TC no stacked E-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08680" y="1214280"/>
            <a:ext cx="1244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Qwerty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BO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287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412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0348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7860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414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343320" y="1322280"/>
            <a:ext cx="2720880" cy="4651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4680" y="24588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33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0200" y="1671480"/>
            <a:ext cx="1174680" cy="78264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6240" y="1671480"/>
            <a:ext cx="1175040" cy="12049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12200" y="1671480"/>
            <a:ext cx="1172880" cy="15163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44520" y="1322280"/>
            <a:ext cx="2176560" cy="3873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3160" y="1322280"/>
            <a:ext cx="2722680" cy="46512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8720" y="16722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azoo” Commitment Kem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97880" y="1732680"/>
            <a:ext cx="104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64000" y="1672200"/>
            <a:ext cx="105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32520" y="280152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5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64600" y="311256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71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4680" y="1684440"/>
            <a:ext cx="862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15200" y="1716480"/>
            <a:ext cx="1201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lay / T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X1 impac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87400" y="1725840"/>
            <a:ext cx="1089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ign concept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311040" y="1402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54040" y="3343320"/>
          <a:ext cx="846468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3343320"/>
                    <a:ext cx="8464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3032280" y="1709640"/>
            <a:ext cx="1174680" cy="12445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110040" y="1710360"/>
            <a:ext cx="104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76400" y="2879280"/>
            <a:ext cx="14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554040" y="4276800"/>
          <a:ext cx="8464680" cy="116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040" y="4276800"/>
                    <a:ext cx="8464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554040" y="5286240"/>
          <a:ext cx="8464680" cy="116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4040" y="5286240"/>
                    <a:ext cx="84646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4121280" y="1814400"/>
            <a:ext cx="1089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-1440" y="3733200"/>
            <a:ext cx="7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5400000">
            <a:off x="-110880" y="4573800"/>
            <a:ext cx="9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 in M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5400000">
            <a:off x="-2520" y="5475240"/>
            <a:ext cx="77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 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EBI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327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7524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85920" y="18018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868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114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12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negati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5920" y="27162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9868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144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32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tual S4 date end of August (2 month delay) due to SX1 impact (Blocking of internal and external software recourses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35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; </a:t>
              </a:r>
              <a:r>
                <a:rPr b="0" lang="en-GB" sz="1600" spc="-1" strike="noStrike">
                  <a:solidFill>
                    <a:srgbClr val="ff0000"/>
                  </a:solidFill>
                  <a:latin typeface="Arial"/>
                </a:rPr>
                <a:t>A-GPS (?)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; 1.3 MPix Camera; Open 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38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RF Connector due to design constr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41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Cosmopolitan Net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148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96880" y="5046840"/>
            <a:ext cx="7121520" cy="1401480"/>
            <a:chOff x="596880" y="5046840"/>
            <a:chExt cx="7121520" cy="1401480"/>
          </a:xfrm>
        </p:grpSpPr>
        <p:sp>
          <p:nvSpPr>
            <p:cNvPr id="154" name=""/>
            <p:cNvSpPr/>
            <p:nvPr/>
          </p:nvSpPr>
          <p:spPr>
            <a:xfrm>
              <a:off x="596880" y="5046840"/>
              <a:ext cx="3527280" cy="14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A-GPS variant (?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MC card slo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 OS (Series 60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5046840"/>
              <a:ext cx="35272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Arial"/>
                </a:rPr>
                <a:t>A-GPS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 variant &amp; </a:t>
              </a:r>
              <a:r>
                <a:rPr b="0" lang="de-DE" sz="1400" spc="-1" strike="noStrike">
                  <a:solidFill>
                    <a:srgbClr val="ff0000"/>
                  </a:solidFill>
                  <a:latin typeface="Arial"/>
                </a:rPr>
                <a:t>W-LAN o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157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3 09/04,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414520"/>
            <a:ext cx="2819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esthetic in a surprisu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uality phot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6880" y="2428920"/>
            <a:ext cx="321300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 OS (Series 6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,3 mega pixel camera with attachable 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   flash (accessor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300" spc="-1" strike="noStrike">
                <a:solidFill>
                  <a:srgbClr val="ff0000"/>
                </a:solidFill>
                <a:latin typeface="Arial"/>
              </a:rPr>
              <a:t>MP3 player (tb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xternal memory (MMC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0000"/>
                </a:solidFill>
                <a:latin typeface="Arial"/>
              </a:rPr>
              <a:t>A-GPS variant (?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648240"/>
            <a:ext cx="2743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or specific MMI &amp; hard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ff0000"/>
                </a:solidFill>
                <a:latin typeface="Arial"/>
              </a:rPr>
              <a:t>Assisted GPS variant enabling location-base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all Project Statu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2120" y="1050840"/>
            <a:ext cx="719460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Softw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oftware only partly progress (Predevelopment S60 V2.0). Only very little progress in other areas (System architecture, integration, planning, SWI, 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Therefore S0-Status for SW not reachable during the next weeks due to resource allocation for S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Hardw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0 Status reached 1</a:t>
            </a:r>
            <a:r>
              <a:rPr b="0" lang="en-GB" sz="1400" spc="-1" strike="noStrike" baseline="30000">
                <a:solidFill>
                  <a:srgbClr val="004b6a"/>
                </a:solidFill>
                <a:latin typeface="Arial"/>
              </a:rPr>
              <a:t>st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of October. We now are facing the situation of upcoming investments for tooling and proto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Business Ca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till negative and further negative impact due to T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4b6a"/>
                </a:solidFill>
                <a:uFillTx/>
                <a:latin typeface="Arial"/>
              </a:rPr>
              <a:t>Act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Investigation of different scenarios based on SX1 V1.2 Software are not sufficient for TTM and business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buClr>
                <a:srgbClr val="004b6a"/>
              </a:buClr>
              <a:buFont typeface="Arial"/>
              <a:buChar char="•"/>
              <a:tabLst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Scenarios based on Penelope could lead to a sufficient solution – further investigation necessary. 1</a:t>
            </a:r>
            <a:r>
              <a:rPr b="0" lang="en-GB" sz="1400" spc="-1" strike="noStrike" baseline="30000">
                <a:solidFill>
                  <a:srgbClr val="004b6a"/>
                </a:solidFill>
                <a:latin typeface="Arial"/>
              </a:rPr>
              <a:t>st</a:t>
            </a:r>
            <a:r>
              <a:rPr b="0" lang="en-GB" sz="1400" spc="-1" strike="noStrike">
                <a:solidFill>
                  <a:srgbClr val="004b6a"/>
                </a:solidFill>
                <a:latin typeface="Arial"/>
              </a:rPr>
              <a:t> estimation TTM -&gt; launch end Septem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76360" y="1676520"/>
            <a:ext cx="3614760" cy="30477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1677960"/>
            <a:ext cx="373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er device: BOM +Conv. Cost + Lic. Fee = HK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6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08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ies (M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7720" y="5216400"/>
            <a:ext cx="76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it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ver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02200" y="4186080"/>
            <a:ext cx="325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6640" y="6351480"/>
            <a:ext cx="177840" cy="166680"/>
          </a:xfrm>
          <a:prstGeom prst="rect">
            <a:avLst/>
          </a:prstGeom>
          <a:solidFill>
            <a:srgbClr val="ffd14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33840" y="6324480"/>
            <a:ext cx="69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14760" y="6095880"/>
            <a:ext cx="568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48440" y="6143760"/>
            <a:ext cx="153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jor Change compared to last re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6640" y="6135840"/>
            <a:ext cx="177840" cy="1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1676520"/>
            <a:ext cx="3610080" cy="21333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83120" y="1677960"/>
            <a:ext cx="197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 price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05520" y="2151000"/>
            <a:ext cx="68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unch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30481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ase out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67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9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16440" y="5313240"/>
            <a:ext cx="1274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 o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turn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19320" y="5105520"/>
          <a:ext cx="292104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715000" y="1905120"/>
          <a:ext cx="2921040" cy="93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19051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5716440" y="2808360"/>
          <a:ext cx="2921040" cy="93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440" y="280836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715000" y="5105520"/>
          <a:ext cx="2921040" cy="9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1500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012680" y="542772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12680" y="523548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30360" y="1828800"/>
          <a:ext cx="3512880" cy="284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360" y="1828800"/>
                    <a:ext cx="3512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3962520" y="914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8800" y="6095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612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9720" y="335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inancial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9680600">
            <a:off x="6120" y="2296440"/>
            <a:ext cx="725184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192320"/>
          <a:ext cx="6629400" cy="33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2320"/>
                    <a:ext cx="66294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685800" y="5181480"/>
          <a:ext cx="6324480" cy="1266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181480"/>
                    <a:ext cx="6324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6553080" y="1295280"/>
            <a:ext cx="25909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ounts: E981-0085, E982-008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984-04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Status: 28.08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48308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overview until M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9680600">
            <a:off x="-324000" y="2296800"/>
            <a:ext cx="72514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&amp;D Spending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 (1)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44600" y="1136520"/>
          <a:ext cx="8180280" cy="5332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1136520"/>
                    <a:ext cx="8180280" cy="533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 (2)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9040" y="1357200"/>
          <a:ext cx="823608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040" y="1357200"/>
                    <a:ext cx="823608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Jürgen Schmitz</cp:lastModifiedBy>
  <cp:lastPrinted>2002-11-05T09:45:05Z</cp:lastPrinted>
  <dcterms:modified xsi:type="dcterms:W3CDTF">2003-10-24T09:01:18Z</dcterms:modified>
  <cp:revision>531</cp:revision>
  <dc:subject/>
  <dc:title>Template Project Status Review</dc:title>
</cp:coreProperties>
</file>